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2E39-DE7F-4205-9BC9-E1F85D12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864216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400520"/>
            <a:ext cx="864216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57A2-ACDB-458A-B5DC-BE89BDC6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F2F1-32E9-4D8D-BD0E-41F08D00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28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28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40052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40052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400520"/>
            <a:ext cx="27824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6B1B-3EA8-46F6-937C-B882B858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280"/>
            <a:ext cx="8642160" cy="84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125"/>
              </a:spcBef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3AF6-CFEF-48CC-9C1E-00ABF2FF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8642160" cy="844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56AC-C2B0-4E08-B6EB-2213BA9B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5E44-E099-483E-AF48-58C86E21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DA9C-6D4B-4E63-9DED-2E592DD9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E90-3DC5-49CC-9D4C-9C30DDA2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EED6-210C-4447-AB85-4086AE86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844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40052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84B2-574C-48A2-A7F0-DBFA937E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280"/>
            <a:ext cx="421704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400520"/>
            <a:ext cx="8642160" cy="402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 algn="r" rtl="1">
              <a:spcBef>
                <a:spcPts val="1125"/>
              </a:spcBef>
              <a:buNone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9862-C134-4702-8A74-62E11A03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280"/>
            <a:ext cx="8642160" cy="844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 algn="r" rtl="1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1" marL="1038240" indent="-398520" algn="r" rtl="1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2" marL="1598760" indent="-319320" algn="r" rtl="1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3" marL="2238480" indent="-319320" algn="r" rtl="1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4" marL="2878200" indent="-319320" algn="r" rtl="1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5" marL="2878200" indent="-319320" algn="r" rtl="1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6" marL="2878200" indent="-319320" algn="r" rtl="1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80320" y="11864880"/>
            <a:ext cx="2241360" cy="682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  <a:defRPr b="0" lang="fa-IR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fa-IR" sz="1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864880"/>
            <a:ext cx="3042000" cy="682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r" rtl="1"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9520" y="11864880"/>
            <a:ext cx="2241360" cy="682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  <a:defRPr b="0" lang="fa-IR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fld id="{50156A7D-14AC-4386-ADD8-A3CEB08D6502}" type="slidenum">
              <a:rPr b="0" lang="fa-IR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9520" y="192240"/>
            <a:ext cx="8991720" cy="1382400"/>
          </a:xfrm>
          <a:prstGeom prst="rect">
            <a:avLst/>
          </a:prstGeom>
          <a:noFill/>
          <a:ln w="76320">
            <a:solidFill>
              <a:srgbClr val="0070c0"/>
            </a:solidFill>
            <a:miter/>
          </a:ln>
        </p:spPr>
        <p:txBody>
          <a:bodyPr lIns="128160" rIns="128160" tIns="64080" bIns="64080" anchor="ctr">
            <a:noAutofit/>
          </a:bodyPr>
          <a:p>
            <a:pPr indent="0" algn="ctr" rtl="1">
              <a:lnSpc>
                <a:spcPct val="150000"/>
              </a:lnSpc>
              <a:buNone/>
              <a:tabLst>
                <a:tab algn="l" pos="0"/>
                <a:tab algn="l" pos="1278000"/>
                <a:tab algn="l" pos="2556000"/>
                <a:tab algn="l" pos="3833640"/>
                <a:tab algn="l" pos="5111640"/>
                <a:tab algn="l" pos="6389640"/>
                <a:tab algn="l" pos="7667640"/>
                <a:tab algn="l" pos="8945640"/>
                <a:tab algn="l" pos="1022364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Calibri"/>
                <a:cs typeface="B Titr"/>
              </a:rPr>
              <a:t>همایش کشوری جایگاه و اقتضائات در تربیت معلم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B Titr"/>
              </a:rPr>
              <a:t>12</a:t>
            </a: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B Titr"/>
              </a:rPr>
              <a:t> اسفند ماه </a:t>
            </a:r>
            <a:r>
              <a:rPr b="0" lang="fa-IR" sz="1800" spc="-1" strike="noStrike">
                <a:solidFill>
                  <a:srgbClr val="000000"/>
                </a:solidFill>
                <a:latin typeface="Calibri"/>
                <a:ea typeface="B Titr"/>
              </a:rPr>
              <a:t>139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43160" y="2828520"/>
            <a:ext cx="4319640" cy="37148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txBody>
          <a:bodyPr lIns="128160" rIns="128160" tIns="64080" bIns="64080" anchor="t">
            <a:noAutofit/>
          </a:bodyPr>
          <a:p>
            <a:pPr indent="0" algn="r" rtl="1">
              <a:spcBef>
                <a:spcPts val="57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2300" spc="-1" strike="noStrike">
                <a:solidFill>
                  <a:srgbClr val="898989"/>
                </a:solidFill>
                <a:latin typeface="Calibri"/>
                <a:cs typeface="B Titr"/>
              </a:rPr>
              <a:t>چکیده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299880" y="1685880"/>
            <a:ext cx="8963280" cy="10717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2300" spc="-1" strike="noStrike">
                <a:solidFill>
                  <a:srgbClr val="898989"/>
                </a:solidFill>
                <a:latin typeface="Calibri"/>
                <a:cs typeface="B Titr"/>
              </a:rPr>
              <a:t>عنوان مقاله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  <a:cs typeface="B Titr"/>
              </a:rPr>
              <a:t>اسامی نگارنده(گان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  <a:cs typeface="B Titr"/>
              </a:rPr>
              <a:t>آدرس نگارنده(گان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ubtitle 2"/>
          <p:cNvSpPr/>
          <p:nvPr/>
        </p:nvSpPr>
        <p:spPr>
          <a:xfrm>
            <a:off x="4943520" y="6597720"/>
            <a:ext cx="4319640" cy="34462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2300" spc="-1" strike="noStrike">
                <a:solidFill>
                  <a:srgbClr val="898989"/>
                </a:solidFill>
                <a:latin typeface="Calibri"/>
                <a:cs typeface="B Titr"/>
              </a:rPr>
              <a:t>مقدمه و اهداف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4943520" y="10115640"/>
            <a:ext cx="4319640" cy="22971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2300" spc="-1" strike="noStrike">
                <a:solidFill>
                  <a:srgbClr val="898989"/>
                </a:solidFill>
                <a:latin typeface="Calibri"/>
                <a:cs typeface="B Titr"/>
              </a:rPr>
              <a:t>روش‌ها و ابزار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299880" y="2828880"/>
            <a:ext cx="4572000" cy="721512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2300" spc="-1" strike="noStrike">
                <a:solidFill>
                  <a:srgbClr val="898989"/>
                </a:solidFill>
                <a:latin typeface="Calibri"/>
                <a:cs typeface="B Titr"/>
              </a:rPr>
              <a:t>نتایج و بحث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ubtitle 2"/>
          <p:cNvSpPr/>
          <p:nvPr/>
        </p:nvSpPr>
        <p:spPr>
          <a:xfrm>
            <a:off x="299880" y="10115640"/>
            <a:ext cx="4572000" cy="228600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Autofit/>
          </a:bodyPr>
          <a:p>
            <a:pPr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fa-IR" sz="2300" spc="-1" strike="noStrike">
                <a:solidFill>
                  <a:srgbClr val="898989"/>
                </a:solidFill>
                <a:latin typeface="Calibri"/>
                <a:cs typeface="B Titr"/>
              </a:rPr>
              <a:t>منابع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C:\Users\news\Desktop\logo copy1.PNG"/>
          <p:cNvPicPr/>
          <p:nvPr/>
        </p:nvPicPr>
        <p:blipFill>
          <a:blip r:embed="rId1"/>
          <a:stretch/>
        </p:blipFill>
        <p:spPr>
          <a:xfrm>
            <a:off x="407880" y="198360"/>
            <a:ext cx="129708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04:01:46Z</dcterms:created>
  <dc:creator>شهرداری شیراز-گروه پژوهش</dc:creator>
  <dc:description/>
  <dc:language>en-US</dc:language>
  <cp:lastModifiedBy>news</cp:lastModifiedBy>
  <dcterms:modified xsi:type="dcterms:W3CDTF">2015-02-18T21:05:05Z</dcterms:modified>
  <cp:revision>53</cp:revision>
  <dc:subject/>
  <dc:title>فورمت ارائه پوستر جهت همایش ملی</dc:title>
</cp:coreProperties>
</file>